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.pct" ContentType="image/x-pict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9D77-5D94-4919-898A-221B0A19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149D-0442-42A5-BE18-60516E4D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E99E-A514-4DDF-A290-EB82F7F9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836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60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836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60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701E-9E8D-4424-B598-12354DBA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75D1-2690-4315-B8E8-8DD16B02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7997-6857-4F51-9B20-C05033A6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E868-765C-4F63-A718-786897C2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8C34-29D1-4A2E-9FF9-266578E8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4ADF-15BF-46F3-A613-A81784DD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76212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5FF2-D17E-46D7-859E-73B8CB63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B18A-55C8-4C75-935B-ECD017C0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A3BB-E98C-41FD-81B0-A20504BC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9EC6-CFB6-482A-8367-B26D0BB5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7AF2-BA4E-49FD-8C8F-405162F3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9F2B-E338-4BF8-9EED-3312FAF4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9229-F431-47B4-904A-06F1C09D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836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60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836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60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4BF7-5C51-4014-A146-876468F7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DFFB-051C-4B55-A7A7-084760BE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0027-B9CF-40AF-92FF-FFA7C4B0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DCD4-1012-4611-B112-9C5D23DC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76212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622B-8047-4D2D-A366-5CFADD25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7413-6927-4978-BDF0-D2DBA10F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C835-306F-4A25-96A6-34F8AA84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252-F495-456B-9060-863342E3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905E-D434-474E-8403-1C4DB26CFBB6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7AC7-F3E9-4D2C-8CC3-F3D18C57DF43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extile"/>
              </a:rPr>
              <a:t>Introduction to iPhot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44193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askerville"/>
              </a:rPr>
              <a:t>iPhoto</a:t>
            </a:r>
            <a:r>
              <a:rPr b="1" lang="en-US" sz="2800" spc="-1" strike="noStrike">
                <a:solidFill>
                  <a:srgbClr val="000000"/>
                </a:solidFill>
                <a:latin typeface="Baskerville"/>
              </a:rPr>
              <a:t> 6.0 for Beginn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Pゴシック"/>
              </a:rPr>
              <a:t>Created by The Office of Media and Educational Technolo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Pゴシック"/>
              </a:rPr>
              <a:t>Updated 07/200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352680" y="1828800"/>
            <a:ext cx="2629080" cy="2535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nvert Fil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886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 PowerPoi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lide show can become  image files by choosing File&gt;Save As&gt;Format&gt;JP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the slides in the presentation will be saved on the desktop in a fold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lder can be dragged in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Phot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import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657600" cy="3376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5664240" y="4140360"/>
            <a:ext cx="533520" cy="22860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21080" y="3262320"/>
            <a:ext cx="1293840" cy="933480"/>
          </a:xfrm>
          <a:prstGeom prst="line">
            <a:avLst/>
          </a:prstGeom>
          <a:ln w="349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62480" y="3289320"/>
            <a:ext cx="1801800" cy="1617480"/>
          </a:xfrm>
          <a:prstGeom prst="line">
            <a:avLst/>
          </a:prstGeom>
          <a:ln w="349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rganizing Librar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90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9880" y="1044720"/>
            <a:ext cx="8076960" cy="53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rganizing Librar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238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Pane to organize and create your albums, books, slideshows, etc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3276720"/>
            <a:ext cx="2209680" cy="1904760"/>
          </a:xfrm>
          <a:prstGeom prst="rightArrow">
            <a:avLst>
              <a:gd name="adj1" fmla="val 50000"/>
              <a:gd name="adj2" fmla="val 2900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514600" y="2971800"/>
            <a:ext cx="5562720" cy="3664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200" y="538200"/>
            <a:ext cx="79549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ips for Library Organiz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440" y="1484280"/>
            <a:ext cx="45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view with image title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by film rol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 to View &gt; Film Roll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 to View&gt; Tit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batch of imported images is a film ro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llapse the film rolls to save scrolling time.  Holding down the Option key while you click on a triangle closes all the rolls instantl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itle the roll now or when you import the photos and set the da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68880" y="2050920"/>
            <a:ext cx="1447920" cy="14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460840" y="3678120"/>
            <a:ext cx="3529080" cy="157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232240" y="5742000"/>
            <a:ext cx="3911760" cy="71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5614920" y="3524400"/>
            <a:ext cx="547920" cy="54756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0760" y="5694480"/>
            <a:ext cx="547920" cy="54756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leting Pictures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719360"/>
            <a:ext cx="548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delete a picture from the library, select the picture, and then hit the Delete button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icture is not complete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leted yet. It is moved to the Trash on the Source Pane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mpletely delete a picture, go to: iPhoto &gt; Empty Tras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Oka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message box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856040" y="4910040"/>
            <a:ext cx="3492720" cy="118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539040" y="1851120"/>
            <a:ext cx="1574640" cy="1092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446880" y="3178080"/>
            <a:ext cx="2060640" cy="1122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ips to Edit Photo 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library, it is easy to edit the title and add/change a photo’s rat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bottom of the Source Pane is a mini tool bar: Click on 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information) butt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248520" y="1600200"/>
            <a:ext cx="1481040" cy="4952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5562720" y="5257800"/>
            <a:ext cx="1676160" cy="1371600"/>
          </a:xfrm>
          <a:prstGeom prst="uturnArrow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rcRect l="0" t="8889" r="0" b="11667"/>
          <a:stretch/>
        </p:blipFill>
        <p:spPr>
          <a:xfrm>
            <a:off x="3903840" y="5667480"/>
            <a:ext cx="1090440" cy="669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943600" y="762120"/>
            <a:ext cx="1733400" cy="6095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61722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ips to Edit Photo 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information) button is pressed, a box appears  in the Source Pane, providing information about the highlighted photo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4800600"/>
            <a:ext cx="1828800" cy="457200"/>
          </a:xfrm>
          <a:prstGeom prst="leftArrow">
            <a:avLst>
              <a:gd name="adj1" fmla="val 81944"/>
              <a:gd name="adj2" fmla="val 10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5486400"/>
            <a:ext cx="1828800" cy="533520"/>
          </a:xfrm>
          <a:prstGeom prst="leftArrow">
            <a:avLst>
              <a:gd name="adj1" fmla="val 72028"/>
              <a:gd name="adj2" fmla="val 8867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rcRect l="0" t="8889" r="0" b="11667"/>
          <a:stretch/>
        </p:blipFill>
        <p:spPr>
          <a:xfrm>
            <a:off x="3429000" y="1903320"/>
            <a:ext cx="853920" cy="52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diting Phot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Phot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llows users to edit photos seve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y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t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h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ve Red Ey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ou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ly follow a few easy step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efore you edit, decide if you want to keep an original. Go to Photos&gt;Duplicate. Editing a photo changes it in every album; make a duplicate for practi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375000" y="2741760"/>
            <a:ext cx="4319640" cy="506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otating Phot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tating the Pictu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hanges the orientation of the image. Click the Rotate button (or hold down the Option key) until the image is correct. You may select and rotate multiple images at o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170760" y="4470480"/>
            <a:ext cx="1523880" cy="766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6226200" y="4506840"/>
            <a:ext cx="758880" cy="8478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diting Phot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45640" y="1665000"/>
            <a:ext cx="60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edit a photo, either double click on it or click on the edit button on the toolb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it View opens a larger photo in its own window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924360" y="3321000"/>
            <a:ext cx="4887720" cy="3194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730920" y="1943280"/>
            <a:ext cx="1524240" cy="766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446960" y="1967040"/>
            <a:ext cx="758880" cy="8474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ing im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ing images in libr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eting pict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iting photo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ic photo editin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ing album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orting i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Phot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diting Phot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the toolbar at the botto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8305560" cy="928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9" name=""/>
          <p:cNvSpPr/>
          <p:nvPr/>
        </p:nvSpPr>
        <p:spPr>
          <a:xfrm flipV="1">
            <a:off x="1066680" y="3276360"/>
            <a:ext cx="533520" cy="152388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49528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ut out unwanted scenery in imag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2590560" y="3200400"/>
            <a:ext cx="609480" cy="175248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49528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hanges the size of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49528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-Ey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lick button and hold over each eye to get rid of red-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4038120" y="3200040"/>
            <a:ext cx="1600200" cy="16002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diting Phot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80880" y="1735200"/>
            <a:ext cx="8534520" cy="955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7" name=""/>
          <p:cNvSpPr/>
          <p:nvPr/>
        </p:nvSpPr>
        <p:spPr>
          <a:xfrm flipV="1">
            <a:off x="2128680" y="2262240"/>
            <a:ext cx="1095480" cy="860400"/>
          </a:xfrm>
          <a:prstGeom prst="line">
            <a:avLst/>
          </a:prstGeom>
          <a:ln w="38160">
            <a:solidFill>
              <a:srgbClr val="3333cc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2160" y="3124080"/>
            <a:ext cx="3429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touch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ixes minor problems.  Blends together the colors near the cross-hair.  Use small short strokes.  Use to eliminate blemishes, spo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533840" y="2176200"/>
            <a:ext cx="154080" cy="941400"/>
          </a:xfrm>
          <a:prstGeom prst="line">
            <a:avLst/>
          </a:prstGeom>
          <a:ln w="38160">
            <a:solidFill>
              <a:srgbClr val="3333cc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1320" y="3100320"/>
            <a:ext cx="32148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hance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Phot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utomatically adjusts color and contrast to improve image quality; works well with photos that are too dark and ones that lack contrast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diting Phot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3505320"/>
            <a:ext cx="4419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ffec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recasts photos in black and white, sepia, and other tones; five effects adjust color and three adjust the bord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7692840" cy="86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505480" y="2819520"/>
            <a:ext cx="3182760" cy="36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5" name=""/>
          <p:cNvSpPr/>
          <p:nvPr/>
        </p:nvSpPr>
        <p:spPr>
          <a:xfrm flipV="1">
            <a:off x="2133720" y="2361960"/>
            <a:ext cx="2819160" cy="1066680"/>
          </a:xfrm>
          <a:prstGeom prst="line">
            <a:avLst/>
          </a:prstGeom>
          <a:ln w="38160">
            <a:solidFill>
              <a:srgbClr val="3333cc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reating Album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5840" y="1682640"/>
            <a:ext cx="57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bums are used to organize pho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bums appear on the Source Pane after cre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create an new albu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 to File&gt;New Album&gt;Name the album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 to the bottom of the Source Pane and click on the plus sig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696000" y="1644480"/>
            <a:ext cx="1968480" cy="284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729480" y="5057640"/>
            <a:ext cx="855720" cy="60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ding Pictures to Album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ng pictures – Go to the Library, command-select the pictures, and drag them into the album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230560" y="3225960"/>
            <a:ext cx="4986360" cy="3408120"/>
            <a:chOff x="2230560" y="3225960"/>
            <a:chExt cx="4986360" cy="340812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2230560" y="3225960"/>
              <a:ext cx="4986360" cy="3408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84" name=""/>
            <p:cNvSpPr/>
            <p:nvPr/>
          </p:nvSpPr>
          <p:spPr>
            <a:xfrm flipH="1" flipV="1">
              <a:off x="3198600" y="3805200"/>
              <a:ext cx="903240" cy="370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rranging Photos in Albu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 drag the pictures to arrange them in any ord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487520" y="3083040"/>
            <a:ext cx="4578480" cy="1554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387520" y="4829040"/>
            <a:ext cx="4633920" cy="1468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MPORTANT!!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: Photos in the album “refer” to the original photo in the library.  If you delete a photo from the album, it is still in the library.  If you delete a photo from the library, it is removed from the albu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lbum Op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en photos are added into the album, users can creat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ide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end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porting Imag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628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export images from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Phot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various us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light the photo or several photos, click File &gt; Export &gt; Choose appropriate size (full size or scale image) &gt; Expor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62360" y="2117880"/>
            <a:ext cx="3810240" cy="289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es of </a:t>
            </a: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iPhoto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in the Classroo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in conjunction with eKits, a compilation of images pertaining to a curriculum topic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a story using the Book feature, relating to curricular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hance slideshow presentations of a topic by setting them to mus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 a card to send to a literary character that describes a setting, mood, or contex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8580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yland Technology Standards for School Administ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f67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67ff"/>
                </a:solidFill>
                <a:latin typeface="Verdana"/>
              </a:rPr>
              <a:t>Standard 2.0 Teaching and 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yland Teacher Technology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f67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67ff"/>
                </a:solidFill>
                <a:latin typeface="Verdana"/>
              </a:rPr>
              <a:t>Standard 5 Integrating technology into curriculum and i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yland Technology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f67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67ff"/>
                </a:solidFill>
                <a:latin typeface="Verdana"/>
              </a:rPr>
              <a:t>Standard 3.0 Technology for Learning and Collabo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or More Information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more details go to the documentary repository in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edia and Technology Information Fold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ct your Office of Media and Technology Representa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y use </a:t>
            </a: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iPhoto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motivate and engag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differentiate learning for various types of learn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make real-world conn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et technology obj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mporting Imag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sibilities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Digital Camer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reen Sh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et Imag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vert Files into Imag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gital Camer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nect camera to USB Por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Pho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ll recognize camera and how many photos to import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it a Roll Name and Descrip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Delete Items from Camera after importing if desired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tos are now i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Pho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ibrary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93432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gital Camer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7772400" cy="504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666880" y="3505320"/>
            <a:ext cx="1447920" cy="1600200"/>
          </a:xfrm>
          <a:prstGeom prst="downArrow">
            <a:avLst>
              <a:gd name="adj1" fmla="val 50000"/>
              <a:gd name="adj2" fmla="val 2762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5562720"/>
            <a:ext cx="1447560" cy="1295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4114800"/>
            <a:ext cx="1447560" cy="1600200"/>
          </a:xfrm>
          <a:prstGeom prst="downArrow">
            <a:avLst>
              <a:gd name="adj1" fmla="val 50000"/>
              <a:gd name="adj2" fmla="val 2763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4495680"/>
            <a:ext cx="838440" cy="1295640"/>
          </a:xfrm>
          <a:prstGeom prst="downArrow">
            <a:avLst>
              <a:gd name="adj1" fmla="val 50000"/>
              <a:gd name="adj2" fmla="val 3863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creen Sho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 screen shot to capture an image found on the Internet or on your compute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o create a screen shot, click and hold 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apple+shift+4.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A crosshairs icon will appear. Click and drag the icon to highlight the content from which you want to create an imag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 file with the name Picture 1.png will appear on the desktop.  As you create more screenshots, the file name could be Picture 2.png, Picture 3.png, etc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o import the image drag it onto 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iPhoto’s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in window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43800" y="2971800"/>
            <a:ext cx="7668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ternet Imag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 from Google or other webpages can be obtained easily u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fa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image desired; the larger the file size, the bett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sure to view the full size ima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cursor on the image and click control and the mou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on Add Imag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ho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ibrary and the image will appear i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ho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ibr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8600" y="4343400"/>
            <a:ext cx="1881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13:03:18Z</dcterms:created>
  <dc:creator>Howard County Public Schools</dc:creator>
  <dc:description/>
  <dc:language>en-US</dc:language>
  <cp:lastModifiedBy>Mel  McNamara</cp:lastModifiedBy>
  <cp:lastPrinted>2008-07-09T13:49:26Z</cp:lastPrinted>
  <dcterms:modified xsi:type="dcterms:W3CDTF">2009-03-11T14:56:30Z</dcterms:modified>
  <cp:revision>69</cp:revision>
  <dc:subject/>
  <dc:title>Introduction to PowerPoint</dc:title>
</cp:coreProperties>
</file>